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13.jpeg" ContentType="image/jpeg"/>
  <Override PartName="/ppt/media/image22.gif" ContentType="image/gif"/>
  <Override PartName="/ppt/media/image17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AF9D94BF-1FD5-4B1D-81F4-43F2F15DB8F7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y9pQYp69JQ" TargetMode="External"/><Relationship Id="rId2" Type="http://schemas.openxmlformats.org/officeDocument/2006/relationships/hyperlink" Target="https://youtu.be/5dNG1AllD-U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66800" y="90360"/>
            <a:ext cx="729792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Государственная организация образования «Кузбасский региональный центр</a:t>
            </a:r>
            <a:br>
              <a:rPr sz="1600"/>
            </a:b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сихолого-педагогической, медицинской и социальной помощи</a:t>
            </a:r>
            <a:br>
              <a:rPr sz="1600"/>
            </a:b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«Здоровье и развитие личности»</a:t>
            </a:r>
            <a:br>
              <a:rPr sz="1600"/>
            </a:b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отделение Гурьевского муниципального округа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6" descr="D:\Рабочий стол\CAs8fZ4B_uE.jpg"/>
          <p:cNvPicPr/>
          <p:nvPr/>
        </p:nvPicPr>
        <p:blipFill>
          <a:blip r:embed="rId1"/>
          <a:stretch/>
        </p:blipFill>
        <p:spPr>
          <a:xfrm>
            <a:off x="11160" y="32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Script"/>
              </a:rPr>
              <a:t>«Приемы развития фонематического слуха, как фактора влияющего на реч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читель – логоп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акова С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гадай голоса животных и птиц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е ребенку вначале прослушать голоса животных и птиц, а затем узнать по голосу животного или пт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youtu.be/Ky9pQYp69J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youtu.be/5dNG1AllD-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лопуш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овторить за взрослым хлопки в ладоши различной гром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487692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Жмур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должен идти на звук колокольчика, погремушки или любого звучащего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658960" y="3230640"/>
            <a:ext cx="6485040" cy="362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высоты, силы, тембра голоса на материале одинаковых звуков. «Поез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29960" y="1341000"/>
            <a:ext cx="742788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ребенку, что когда поезд едет далеко, его плохо слышно, поэтому он сигналит тихо «ту-туу». А когда поезд совсем рядом, он сигналит громко. Потом нужно изображать сигнал поочередно тихим и громким голосом, а ребенок будет угадывать далеко поезд или близко. Можно усложнить, добавив поезд, который едет не далеко и не близко, и угадывать сигналы уже трех поез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916360" y="44197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гадай по высоте голос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 небольшую историю про животных: «Жили были папа-кот (корова, собака, гусь…), мама-кошка и их котенок. Папа говорил «мяу-мяу» (сказать низким, грубым голосом), мама говорила «мяу-мяу» (средним по высоте голосом), а котенок пищал «мяу-мяу» (высоким голосом)». Затем попросить ребенка угадать, кто сейчас говорит, произнося «мяу-мяу» разными голосами. Потом можно с ребенком поменяться ро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597720" y="4336920"/>
            <a:ext cx="2546280" cy="254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то это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записать на камеру телефона или диктофон голоса нескольких родственников, знакомых ребенку людей. Дать послушать и попросить угадать, кто гов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411280" y="2657520"/>
            <a:ext cx="6193080" cy="422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слов близких по своему звуковому состав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рти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еить или нарисовать на листе бумаги похожие по названию картинки, например, крыса – крыша, мишка – миска, лак – рак , коза – коса и т.д. Взрослый называет слова, а ребенок показывает соответствующую карт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31768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груш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разные игрушки, выстроить в ряд и называть ребенку. Одну часть игрушек нужно назвать правильно, а другую  - намеренно меняя первую букву, например, тошка – кошка, фобака – собака. Ребенок должен угадывать, когда правильно, а когда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419640" y="3882960"/>
            <a:ext cx="3984480" cy="29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слого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ишний сло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износит ряд слогов, например, «жу-жу-жу-зу-жу-жу». Услышав лишний слог, ребенок говорит «стоп» или хлопает в ладоши. Можно попросить назвать тот слог, который отличался от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baby18.gif"/>
          <p:cNvPicPr/>
          <p:nvPr/>
        </p:nvPicPr>
        <p:blipFill>
          <a:blip r:embed="rId1"/>
          <a:stretch/>
        </p:blipFill>
        <p:spPr>
          <a:xfrm>
            <a:off x="4859280" y="3789360"/>
            <a:ext cx="1649520" cy="239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втори слог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называет цепочку слогов со звуками схожими по звучанию. Ребенок внимательно слушает, а потом должен воспроизвести в той же последовательности, например, па-па-ба, ка-га-ка, да-та-та, са-за-ца, са-ша-са, ша-ша-ж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1295280" y="260280"/>
            <a:ext cx="76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х 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ность воспринимать окружающи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003640" y="5800680"/>
            <a:ext cx="3961080" cy="6778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1476360" y="2198520"/>
            <a:ext cx="73436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зический слух (нерече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зволяет людям различать звуки, не связанные с речью: шумы, природные звуки, му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нематический слух (рече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(«фонема» в переводе с древне-греческого означает «звук») – это способность слышать и распознавать звуки ре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обращенную р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Диана\Desktop\ses-kaynaklari-1000x600.jpg"/>
          <p:cNvPicPr/>
          <p:nvPr/>
        </p:nvPicPr>
        <p:blipFill>
          <a:blip r:embed="rId4"/>
          <a:stretch/>
        </p:blipFill>
        <p:spPr>
          <a:xfrm>
            <a:off x="5613480" y="4568760"/>
            <a:ext cx="352728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звук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ой зву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ыбирает звук, который ему предстоит «опознать», а взрослый произносит цепочку произвольных звуков, затем слогов, а впоследствии, слов. Как только ребенок услышит «свой звук», он должен хлопнуть в ладош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газин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говорит ребенку: «Сегодня мы с тобой покупаем товары только на заданный звук». Ребенок должен назвать товары на этот звук. Например, выбираем звук «М» - молоко, масло, мандарин,  машинка, молот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грушки для Сони и Шуры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ебенком две куклы Соня и Шура и картинки со звуками «С», «Ш». Ребенку предлагается определить, чья это картинка Сонина или Шурина. У Сони те картинки, в названии которых звук «С», а у Шуры картинки, в названии которых есть звук «Ш». Ребенок распределяет картинки на две группы. Можно усложнить и предложить определить положение звука в слове (в начале, в середине, в конце слова). Начало это первый звук в слове, конец – последний звук в слове, во всех остальных случаях звук находится в середин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колько звуков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износит различные звукосочетания, а ребенок называет количество звуков. Например, о-о-о – один, р-о-о – два, о-о-а-у – три разных звука и так да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baby18.gif"/>
          <p:cNvPicPr/>
          <p:nvPr/>
        </p:nvPicPr>
        <p:blipFill>
          <a:blip r:embed="rId1"/>
          <a:stretch/>
        </p:blipFill>
        <p:spPr>
          <a:xfrm>
            <a:off x="5867280" y="4005360"/>
            <a:ext cx="1792440" cy="260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кой звук есть в словах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износит три-четыре слова: шуба, кошка, мышь - и спрашивает у детей, какой звук есть во всех этих словах. Ребенок называет звук "ш". Затем предлагает определить, какой звук есть во всех ниже приведенных словах: жук, жаба, лыжи – "ж"; чайник, ключ, очки – "ч"; щетка, ящик, щавель – "щ"; коса, усы, нос – «с»; селедка, Сима, лось – "сь"; коза, замок, зуб – "з"; зима, зеркало, вазелин – "зь"; цветок, яйцо, курица – "ц"; лодка, стул, лампа – "л"; липа, лес, соль – "ль"; рыба, ковер, крыло – "р"; рис, крепость, букварь – "рь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пущенные буквы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называет слова, пропуская один звук, задача ребенка определить, что пропущено (сне_инка, ка_тошка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" descr="baby01.gif"/>
          <p:cNvPicPr/>
          <p:nvPr/>
        </p:nvPicPr>
        <p:blipFill>
          <a:blip r:embed="rId1"/>
          <a:stretch/>
        </p:blipFill>
        <p:spPr>
          <a:xfrm flipH="1">
            <a:off x="3131640" y="3357720"/>
            <a:ext cx="3224520" cy="314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4969080" cy="683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960" y="2857320"/>
            <a:ext cx="82296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a9337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baby04.gif"/>
          <p:cNvPicPr/>
          <p:nvPr/>
        </p:nvPicPr>
        <p:blipFill>
          <a:blip r:embed="rId1"/>
          <a:stretch/>
        </p:blipFill>
        <p:spPr>
          <a:xfrm>
            <a:off x="5867280" y="3978360"/>
            <a:ext cx="32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baby20.gif"/>
          <p:cNvPicPr/>
          <p:nvPr/>
        </p:nvPicPr>
        <p:blipFill>
          <a:blip r:embed="rId2"/>
          <a:stretch/>
        </p:blipFill>
        <p:spPr>
          <a:xfrm flipH="1">
            <a:off x="1642680" y="404640"/>
            <a:ext cx="2281320" cy="264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ое восприя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мение определять звуковой состав слова, то есть анализироват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C:\Users\Диана\Desktop\img.jpg"/>
          <p:cNvPicPr/>
          <p:nvPr/>
        </p:nvPicPr>
        <p:blipFill>
          <a:blip r:embed="rId1"/>
          <a:stretch/>
        </p:blipFill>
        <p:spPr>
          <a:xfrm>
            <a:off x="2268360" y="3068640"/>
            <a:ext cx="397692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ерации фонематического вос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линейную последовательность звуков в сло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позицию звука в слове по отношению к его началу, середине или конц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или подсчет количества звуков в сл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baby18.gif"/>
          <p:cNvPicPr/>
          <p:nvPr/>
        </p:nvPicPr>
        <p:blipFill>
          <a:blip r:embed="rId1"/>
          <a:stretch/>
        </p:blipFill>
        <p:spPr>
          <a:xfrm>
            <a:off x="6012000" y="5084640"/>
            <a:ext cx="1000080" cy="145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нарушения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ого сл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угоух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индром дефицита внимания и гиперактивности (СДВ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фекционные заболевания, проблемы с пищева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Эндокринные 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равмы головы и заболевания, связанные с воспалением головного мозга (энцефалит, менинг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циальн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чем развивать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ий сл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ть нарушения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связную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ть ошибок при чтении и письме и трудностей при изучении иностранных язы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словарный зап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чь была интонационно-выразите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C:\Users\Диана\Desktop\Infants_Headphones_500963_1920x1200.jpg"/>
          <p:cNvPicPr/>
          <p:nvPr/>
        </p:nvPicPr>
        <p:blipFill>
          <a:blip r:embed="rId1"/>
          <a:stretch/>
        </p:blipFill>
        <p:spPr>
          <a:xfrm>
            <a:off x="3708360" y="4668840"/>
            <a:ext cx="3030480" cy="189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азвития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ого слуха и вос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знавание неречев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личение высоты, силы, тембра голоса на материале одинаковых звуков, слов, ф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личение слов близких по своему звуковому соста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личение сл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личение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звитие навыков элементар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ого анали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" descr="baby01.gif"/>
          <p:cNvPicPr/>
          <p:nvPr/>
        </p:nvPicPr>
        <p:blipFill>
          <a:blip r:embed="rId1"/>
          <a:stretch/>
        </p:blipFill>
        <p:spPr>
          <a:xfrm flipH="1">
            <a:off x="6156000" y="4029120"/>
            <a:ext cx="2792520" cy="27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вание неречевых зву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гадай зву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ебенком несколько предметов, которыми можно издать какой-либо звук. Например, бутылка с водой, банка с крупой, бумага, которую можно помять или порвать, постучать ложкой о тарелку, различные погремушки, музыкальные игрушки и т.п. Показываете ребенку, какой звук издает каждый предмет, затем ребенок отворачивается или закрывает глаза. Вы издаете звук любым предметом, а ребенок должен его уг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Ольга Юрьевна\Desktop\3258d9bf.png"/>
          <p:cNvPicPr/>
          <p:nvPr/>
        </p:nvPicPr>
        <p:blipFill>
          <a:blip r:embed="rId1"/>
          <a:stretch/>
        </p:blipFill>
        <p:spPr>
          <a:xfrm>
            <a:off x="4643280" y="4378320"/>
            <a:ext cx="4243680" cy="24796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baby12_1.gif"/>
          <p:cNvPicPr/>
          <p:nvPr/>
        </p:nvPicPr>
        <p:blipFill>
          <a:blip r:embed="rId2"/>
          <a:stretch/>
        </p:blipFill>
        <p:spPr>
          <a:xfrm>
            <a:off x="7567560" y="34920"/>
            <a:ext cx="1433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то внутри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 одинаковые  непрозрачные коробочки, например, из-под киндер-сюрпризов. Наполните их различными крупами, фасолью, горохом, гречкой, рисом, манкой. Ребенок должен трясти коробочки и угадывать, что внутри. Предварительно вы ему показываете содержимое коробочки и даете послушать, как она зву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Ольга Юрьевна\Desktop\10.png"/>
          <p:cNvPicPr/>
          <p:nvPr/>
        </p:nvPicPr>
        <p:blipFill>
          <a:blip r:embed="rId1"/>
          <a:stretch/>
        </p:blipFill>
        <p:spPr>
          <a:xfrm>
            <a:off x="5292720" y="3933720"/>
            <a:ext cx="309564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Ольга Юрьевна</cp:lastModifiedBy>
  <dcterms:modified xsi:type="dcterms:W3CDTF">2004-12-31T17:15:14Z</dcterms:modified>
  <cp:revision>153</cp:revision>
  <dc:subject/>
  <dc:title>Green Butterflies</dc:title>
</cp:coreProperties>
</file>